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28D-50C9-44E7-BCC9-BFFCD558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7A35-3A1A-4E8E-8B41-FC21322D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846-A6DD-4B88-86BA-4B2ED871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AF5-BA4A-4296-BB88-55A400C8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A1A9-A59A-4F9D-ACFC-1838C408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685D-6FF5-416E-A527-C7F78622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EAE0-6788-4001-B605-2E03E3B2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9C29-90CF-465F-90AB-C42DECBB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6F05-5969-4B47-8274-B498CEA0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B371-522D-4402-B4F0-1DA574FD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0615-D076-4634-B13D-6779C03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7DD-E35A-440D-87DB-4EF518AA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9243-C01B-4799-8896-9239A044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2ECF-45E1-4CFA-A63F-B8B5A40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A580-D0E9-4D57-A917-23647E79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E2EC-2026-4C0E-AE93-772925EC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712040"/>
            <a:ext cx="206064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BB80-4F37-479B-A1EF-2E0AA060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2B8-E28F-4414-BAB6-777A9112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CBD2-A550-4D48-B990-01B176E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A47-3069-4C85-89CA-007AE01B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837720"/>
            <a:ext cx="6781680" cy="118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149-2F39-4E33-BEC6-EE5D5718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06C-E924-4921-BD06-8F4FC4D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71204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451-5B5A-4EED-BF4E-6F4C8944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712040"/>
            <a:ext cx="6400800" cy="89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AB2-FE4F-4999-BBA7-C8CBE733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78D-E5FA-48D4-A29B-3D0B3A9035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F44F-DA62-4D53-BCDE-F4EDADCD6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utomated_teller_machine#Global_use" TargetMode="External"/><Relationship Id="rId2" Type="http://schemas.openxmlformats.org/officeDocument/2006/relationships/hyperlink" Target="http://www.gulfnews.com/business/money/10072740.html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TM : A.T.M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one by Shakila Satt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 cited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en.wikipedia.org/wiki/Automated_teller_machine#Global_us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http://www.gulfnews.com/business/money/10072740.htm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 for watching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A.T.M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utomated teller machin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utomatic teller machin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36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 A.T.M. machine consists o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Magnetic or chip card reader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Pin pa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ecured cryptopprocessor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splay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unction key or touch scree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Record Printe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Vault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us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2840" y="1905120"/>
            <a:ext cx="2597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usage of A.T.M.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 customer is identified by inserting a plastic card with a magnetic stri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plastic smartcard with a chip that contains the card number and security informa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pon successful entry of the PIN, the customer may perform a transaction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ternate uses of A.T.M.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s it was basically invented as a cash dispenser, they now have evolved to include many other bank-related functions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72428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ositing currenc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gnitio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ptanc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recyc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572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tional fr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2680" y="32004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al stamp purc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472428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ing ban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858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nation to chariti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362320"/>
            <a:ext cx="2362320" cy="12189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cket Purchas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26708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ing routine bill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es and tax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22860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ing monet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ue into pre-pa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9144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chase of Lott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3200400"/>
            <a:ext cx="2362320" cy="12193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ing passboo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 types available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stallation location – on and off premi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hysical characteristics – mono and multi function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0" b="6645"/>
          <a:stretch/>
        </p:blipFill>
        <p:spPr>
          <a:xfrm>
            <a:off x="4572000" y="2147760"/>
            <a:ext cx="396252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we use an A.T.M.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venie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able us to check our account balance, withdraw cash, or make any type of bank transaction any tim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gative aspect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employment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stead of talking to a person we are confronting a machin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uld be confusing to operate at tim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could forget our password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e might have questions that it is unable to answer unlike a human woul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rim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obbing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olen or counterfeit ATM cards?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M frau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ss of privac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rror of the computer program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sitive aspect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job opportunities at a computer stor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w do computers change the work environment and the structure of business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ienation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stomer servic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nking industries developed may approaches to reducing fraud and ATM crime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s of privacy but helps control crime?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6:31:26Z</dcterms:created>
  <dc:creator>BD03F0045</dc:creator>
  <dc:description/>
  <dc:language>en-US</dc:language>
  <cp:lastModifiedBy>Shakila Sattar</cp:lastModifiedBy>
  <dcterms:modified xsi:type="dcterms:W3CDTF">2006-10-08T07:27:27Z</dcterms:modified>
  <cp:revision>6</cp:revision>
  <dc:subject/>
  <dc:title>ATM : A.T.M</dc:title>
</cp:coreProperties>
</file>